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1EB9-9DE4-4DEB-BD5A-DDCC0A11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8A8-731B-4930-984F-12956705BE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EDF-DED5-4EA7-9E00-08E12668C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C88D-4608-4DB3-A040-56C96A47A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FE1-B4A8-46B5-8F1E-FECB2A36F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6D5-BBDB-4FCD-9105-83B5B51075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5C3-DC33-43CC-9E68-5D532AA546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DD8-7332-4D41-A7C4-D04E89B06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E1E6-5D14-4F43-8AC2-C7A3101E8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22CB-2669-495D-99C1-2686C6B03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019-B49B-4E5C-9B4F-4099A2253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8DB9-7CBE-4053-9DD2-F21B252F5C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36D-FA3B-4967-84CF-001256EB95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F8D-B0B8-448D-9BDE-1CFA97A711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9B2E-17DE-4D62-95FB-6B5B3E93C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E94-01E8-4440-9E27-5E1032F4C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64D-A01B-4EF7-9057-D9E3D3F9F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9C37-8FE8-427F-A194-C7CA70602B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0DC-C712-4EBC-89D2-7543F2A565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12A-E4FE-48E1-A98C-D154439E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B23-159C-48BB-A8A0-9DC57F7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63F-BC8D-44F9-B51C-ED126C37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775-70AE-481F-ADD5-B267EDF2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7B5B-BC48-446C-88C6-8E25923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E73A-7DD9-4473-AA7B-F97233E1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5966-C814-43CD-8954-301AEB0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DD2-54C8-4BF2-93C2-1C2A5359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75E9-2D34-4693-802F-38EDE8D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4219-9245-4EB6-BB43-67F60BB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28E0-A83E-42B9-B776-91F6DA4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241-DE2D-47A1-B04D-A9C6944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EEE-0AEB-4097-8493-05E1B1A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2CF4-6E74-4E84-82E3-D1EC3D2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D30-3C61-4599-970A-CCEC953F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B810-D230-4ED1-932A-73183A67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921F-EE8F-42EA-902A-DDFC6C74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045-A830-40F4-AA19-0A4A2BDE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3F5-4B6C-47AD-8896-FE63F79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38D-7072-417A-B2DC-A9914D3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56E-2BB4-421B-8727-EDEE67EE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EE7-383C-4E4A-AEA0-9E431D4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EE3-B12F-4956-BDD6-BE6BCF4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EF9-03CB-4AE7-A63D-A6A760F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7118-51B7-40EB-9633-881FE4BCE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575-6700-4315-A870-6C659E63A4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8/hm202_01_q08fs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9/hm202_01_q09fs.htm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12/hm202_01_q12fs.htm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7/hm202_01_q07fs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4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MA, KORINA and whoever else…set your experiment up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nie, Hagles, Millers, Grassland --- SODA???  Finish your lab set up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else – get out your worksheet pa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until 8:30 to finish pages 1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8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can carbon accept in it’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orbit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your plants for growth and water them if the soil is no longer mo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bon = Organic Chem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bonds readily with other elements…why do you think this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/c carbon has on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- in it’s outer orbital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it rea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e- from 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5364000" y="312408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8/hm202_01_q08f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1 electron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2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3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ip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41904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toms shar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9/hm202_01_q09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rcRect l="0" t="0" r="24531" b="27774"/>
          <a:stretch/>
        </p:blipFill>
        <p:spPr>
          <a:xfrm>
            <a:off x="2514600" y="2098800"/>
            <a:ext cx="66294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/ molecule with a charge ( + or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give / take electrons to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d 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tracting eac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12/hm202_01_q12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rcRect l="0" t="3109" r="0" b="16661"/>
          <a:stretch/>
        </p:blipFill>
        <p:spPr>
          <a:xfrm>
            <a:off x="3352680" y="3370320"/>
            <a:ext cx="5791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9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 covalent bond and an ionic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7308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mposition of Matter - Ch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416880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example of an ionic bo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74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s the least energy?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qu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occup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volu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ake shap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475160" y="3352680"/>
            <a:ext cx="466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xns need energy input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that speeds up rxns w/o being changed (lowers activation 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my.hrw.com/sh/hm2/0030724872/student/ch02/sec02/qc06/hm202_02_q06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olecule has an uneven distribution of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oesn’t share the e- equally with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pulls the e- closer, thus the oxygen has a partial negative charge and the hydrogen gets a partial positive charge (draw the pi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 – muy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ttraction between the partially negative oxygen and partially positive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gives water some VERY IMPORTANT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H bonding of water"/>
          <p:cNvPicPr/>
          <p:nvPr/>
        </p:nvPicPr>
        <p:blipFill>
          <a:blip r:embed="rId1"/>
          <a:stretch/>
        </p:blipFill>
        <p:spPr>
          <a:xfrm>
            <a:off x="3962520" y="316080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bonds creates surface tension – water “sticks”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more dense, water or m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aper clip?!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, but paperclip floats b/c water is weakly bonded and those bonds are not bre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Wa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st dense state of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very important…b/c if ice was more dense lakes woul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ze soli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fe could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267080" y="3208320"/>
            <a:ext cx="4753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30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ctivation energ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and review sheets due Monday…review for the test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something will dissolve in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= polar….which allows it to dissolve other polar / ion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substances that ionically b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www.youtube.com/watch?v=gN9euz9jzwc&amp;feature=rela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905440" y="3457440"/>
            <a:ext cx="3238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ter and Oi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ater and oil mix?  Why / why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ow is the chemical structure of olive oil…it is NON-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LAR water does not dissolve / interact with the NON-POLAR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333760" cy="148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943600" y="4959360"/>
            <a:ext cx="3419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rm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occupies space and ha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matter something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of the pull of gravity on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6791400" y="4551480"/>
            <a:ext cx="2352600" cy="230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066680" y="468648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your notes…using a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similar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capillary action or capillari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101000" y="1981080"/>
            <a:ext cx="2043000" cy="2667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9200" y="5468760"/>
            <a:ext cx="1847880" cy="138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09680" y="52671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how acid / basic a substanc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5/hm202_03_q05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low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t of H3O+  (HCL or H2SO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0 + HCl = H30+ + Cl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6/hm202_03_q06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t of OH-  (NaO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0 + NaOH = Na+ + O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y.hrw.com/sh/hm2/0030724872/student/ch02/sec03/qc07/hm202_03_q07f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24200" y="4910040"/>
            <a:ext cx="54198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541440"/>
            <a:ext cx="761976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nished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cannot be broken into simpler kinds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particle of an element that retains the properties of tha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protons and 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up most of th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635800" y="3200400"/>
            <a:ext cx="350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ly charged particles in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ly charged particles that orbit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 particle 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4340" r="16201" b="5554"/>
          <a:stretch/>
        </p:blipFill>
        <p:spPr>
          <a:xfrm>
            <a:off x="5257800" y="3724200"/>
            <a:ext cx="3886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 and neutr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have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Carbon-12, Carbon-13 &amp; Carbon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isotopes are averaged and that is the mass number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majority of Carbon (~99%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______ neutr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62920" y="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257800" y="0"/>
            <a:ext cx="1676520" cy="160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6858000" y="4765680"/>
            <a:ext cx="1905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-25 Warm 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between atomic number and mass numb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your plants (not too much!)  Water is in water bottles up fro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out the worksheet pages 1-6…put your name on it…tear off back sheet…pass pages forward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, hand in your warm up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wo or mor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usually bond to become more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energy level can hold 2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energy level can hold 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energy level can hold 1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want their energy levels to be full so they ar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my.hrw.com/sh/hm2/0030724872/student/ch02/sec01/qc07/hm202_01_q07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thi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rcRect l="64361" t="14222" r="6943" b="40112"/>
          <a:stretch/>
        </p:blipFill>
        <p:spPr>
          <a:xfrm>
            <a:off x="7543800" y="4946760"/>
            <a:ext cx="16002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es it need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s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ow many needed to be s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666880" cy="25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567400" y="0"/>
            <a:ext cx="357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7:03:16Z</dcterms:created>
  <dc:creator>SASD</dc:creator>
  <dc:description/>
  <dc:language>en-US</dc:language>
  <cp:lastModifiedBy>SASD</cp:lastModifiedBy>
  <dcterms:modified xsi:type="dcterms:W3CDTF">2009-10-01T14:47:07Z</dcterms:modified>
  <cp:revision>41</cp:revision>
  <dc:subject/>
  <dc:title>Chemistry of Life</dc:title>
</cp:coreProperties>
</file>